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5474-2A67-4C29-B856-4B700305A72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78F1-331D-46CA-884F-56F4F168E051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02AC-5D23-4C08-AC81-381B82AB8BC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B566-B17C-4838-8B37-00413AB5A460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CECF-F219-44B3-A4B2-C2238741F92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6528-64C7-4D45-9C34-7C1B32A28E5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9712-9204-46E9-BDCD-1D46D71089BF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661C-3F0A-4878-94B0-44BDE746CBF7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CEBD-E10C-4495-8195-B6EFCD8D4DB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928C-48DD-4AA9-B8B7-619CA815C937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E7F2-3FD8-4EC9-BCA6-E7EF7A161501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10D8-6847-4B82-B841-0E4913CE458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05D3-D014-4C2E-B6A7-CB7EED747DBF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BB4B-9D31-48A4-8FC2-9DC5DD3472EE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D41F-A152-499A-B50C-E2BB83F5EC1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2BB8-ECC0-4F4E-8CF1-A62BA96417D5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78A9-F1AF-450A-A437-8E497C6B3D4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0BC4-C40B-4C56-9324-0488BF2A61A8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5B7D-FB4C-4CD1-87F4-A618E888D7E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0C94-1495-44DE-9D49-D02B5E59E7AE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6022-C4D2-4D73-BEB6-4F568B058C0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0C48-ECE8-451A-82DD-377A107E9508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37E7-1448-4CAD-AD76-161C8F55993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88DD-C080-49C6-8079-2AF87E6E93A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D3DC-6CCE-4366-823E-54AA3CA1E2AE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2847-E308-4F54-A2D1-14418FDF6D4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25B0-E797-46C8-8581-E3A45EF2E96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D0CE-C7FC-459E-AE47-FA9F50AC024E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D422-8827-4024-B2D2-8D8690FC8BE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C1C5-1583-423A-977B-05245E680DA1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24D4-3EA8-4C42-B6EA-30A1E214332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56C7-74A3-48C1-AD25-C08B229D3768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9590-72F5-42E2-B5E2-F6D9E3830F37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2AF0-C121-42EB-9BD2-C7314EE9CA2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4A3C-EF3F-420A-85D8-D6A98DDB9931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1717-EB8D-48B5-80FA-876806E30A74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8859-43B3-4C16-91BD-C11F11EFBFE0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098A-9913-4834-82BE-9AE34F16D84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3A64-3A9F-440B-9727-D4A39B911760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3C8B-7D09-4D5B-BADA-B9FB3A0AC7C1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2361-373F-4A69-AF03-2197C9A2692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0371-0118-4701-87DF-38FA047EA54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D802-C147-4244-A823-BDDEFCFD9D9E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18CE-A82C-479C-A2D8-632CF6B33154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F8D4-C33E-4A39-9265-C397E0DE591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8307-07D0-420A-AD18-917E9DB7B7F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7149-E06E-4B4B-8992-4003DDC2D88B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17C5-6F23-4243-9CCA-795538F4B57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92DF-7A89-4B40-BC92-BB8F19743080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B0D3-8C09-4D1E-B68F-1CCD8DB0E4E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E3A3-3A16-4628-8964-21E1FF686ED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7837-D6C1-4903-A5EE-1E234843403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114C-F144-49C3-9EF6-797443C1AD48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45FC-72E9-4A60-B975-64984A97EC4C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0FC3-0904-4CB7-99D6-1D408B9F2478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DC90-38B3-4459-B7F2-68E90A9D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4802-7886-4D54-8F39-FDCD2F97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2BCE-C97E-464E-88F3-074810E0F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EF7A-6FE8-40BD-B9B9-6640BA9B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9335-B8EB-4976-A004-DB408393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E70E-F564-4871-82A6-9FA67FFC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F531-A294-4891-8D96-06BB6FC3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D368-D2AF-4FE0-A9A8-867C21C8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9FED-22A3-45D4-9537-0E5AD3A2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4451-DF3A-4BF1-8EA6-2EE3FB46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D3D0-FDB7-4ABC-B2EF-900DDB41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8C4C-EAE5-4868-9A78-75ACBE66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2295-0F16-46B2-A2D0-DA101697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FB2F-0565-470D-9D7C-FE1CF612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8F15-992D-477B-9360-7FCAC763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C918-6DE7-4CA0-8829-3890F2C2F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2AE54-C940-42F7-9DCA-CC4CF946A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B978-0091-46C3-AF4C-2071CB19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3B64-9273-4D42-A215-FEEE2AAE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BB75-A38F-4A1A-B5CF-65411A9F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4415-CC2B-4717-B0D8-F1A9F153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1E6A-4C77-482F-89AB-606FFE07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11C5-2672-419D-B1D6-10CBF479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0779-5A6F-4E24-A1C3-0428C492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61BB-F21D-44CB-82EE-4F560563F568}" type="slidenum"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77BE-94F9-49AD-9E0F-E7C38EFB200F}" type="slidenum"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8634600" cy="4238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it-IT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it-IT" sz="2800" spc="-1" strike="noStrike">
                <a:solidFill>
                  <a:srgbClr val="ccecff"/>
                </a:solidFill>
                <a:latin typeface="Arial"/>
              </a:rPr>
              <a:t>PAS – Univ. Di Pisa, 2013</a:t>
            </a:r>
            <a:br>
              <a:rPr sz="1600"/>
            </a:br>
            <a:br>
              <a:rPr sz="1800"/>
            </a:br>
            <a:br>
              <a:rPr sz="1800"/>
            </a:br>
            <a:r>
              <a:rPr b="1" lang="it-IT" sz="2800" spc="-1" strike="noStrike">
                <a:solidFill>
                  <a:srgbClr val="ff6600"/>
                </a:solidFill>
                <a:latin typeface="Bookman Old Style"/>
              </a:rPr>
              <a:t>La progettazione curricolare:</a:t>
            </a:r>
            <a:br>
              <a:rPr sz="2800"/>
            </a:br>
            <a:r>
              <a:rPr b="1" lang="it-IT" sz="2800" spc="-1" strike="noStrike">
                <a:solidFill>
                  <a:srgbClr val="ff6600"/>
                </a:solidFill>
                <a:latin typeface="Bookman Old Style"/>
              </a:rPr>
              <a:t>modelli teorico-metodologici di riferimento e quadro normativo </a:t>
            </a:r>
            <a:br>
              <a:rPr sz="24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99680" y="5285880"/>
            <a:ext cx="806436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ffff"/>
                </a:solidFill>
                <a:latin typeface="Verdana"/>
              </a:rPr>
              <a:t>Davide Capperucc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46836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ecff"/>
                </a:solidFill>
                <a:latin typeface="Arial"/>
              </a:rPr>
              <a:t>      </a:t>
            </a:r>
            <a:r>
              <a:rPr b="1" lang="it-IT" sz="2400" spc="-1" strike="noStrike">
                <a:solidFill>
                  <a:srgbClr val="ffcc66"/>
                </a:solidFill>
                <a:latin typeface="Century Gothic"/>
              </a:rPr>
              <a:t>Programma</a:t>
            </a:r>
            <a:r>
              <a:rPr b="1" lang="it-IT" sz="2400" spc="-1" strike="noStrike">
                <a:solidFill>
                  <a:srgbClr val="ccecff"/>
                </a:solidFill>
                <a:latin typeface="Century Gothic"/>
              </a:rPr>
              <a:t>                    </a:t>
            </a:r>
            <a:r>
              <a:rPr b="1" lang="it-IT" sz="2400" spc="-1" strike="noStrike">
                <a:solidFill>
                  <a:srgbClr val="ffcc66"/>
                </a:solidFill>
                <a:latin typeface="Century Gothic"/>
              </a:rPr>
              <a:t>Curricolo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980720" y="1523520"/>
            <a:ext cx="2514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Sapere Accademic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Programm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Programmazio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pprendimen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(conoscenze disciplinari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257440" y="15238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(competenz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pprendimen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Saper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Progettazio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nalisi de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bisogn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(soggetto/contesto)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3132000" y="227664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AutoShape 6"/>
          <p:cNvSpPr/>
          <p:nvPr/>
        </p:nvSpPr>
        <p:spPr>
          <a:xfrm>
            <a:off x="3132000" y="3500280"/>
            <a:ext cx="228600" cy="838440"/>
          </a:xfrm>
          <a:prstGeom prst="downArrow">
            <a:avLst>
              <a:gd name="adj1" fmla="val 50000"/>
              <a:gd name="adj2" fmla="val 9169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3132000" y="486900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6400800" y="2133720"/>
            <a:ext cx="228600" cy="838080"/>
          </a:xfrm>
          <a:prstGeom prst="upArrow">
            <a:avLst>
              <a:gd name="adj1" fmla="val 50000"/>
              <a:gd name="adj2" fmla="val 91654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AutoShape 9"/>
          <p:cNvSpPr/>
          <p:nvPr/>
        </p:nvSpPr>
        <p:spPr>
          <a:xfrm>
            <a:off x="6400800" y="3429000"/>
            <a:ext cx="228600" cy="762120"/>
          </a:xfrm>
          <a:prstGeom prst="upArrow">
            <a:avLst>
              <a:gd name="adj1" fmla="val 50000"/>
              <a:gd name="adj2" fmla="val 8334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6400800" y="4572000"/>
            <a:ext cx="243000" cy="857160"/>
          </a:xfrm>
          <a:prstGeom prst="upArrow">
            <a:avLst>
              <a:gd name="adj1" fmla="val 50000"/>
              <a:gd name="adj2" fmla="val 9994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Articolazioni del Curricol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1699920"/>
            <a:ext cx="885672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6600"/>
                </a:solidFill>
                <a:latin typeface="Verdana"/>
              </a:rPr>
              <a:t>Quota nazionale del curricol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3300"/>
                </a:solidFill>
                <a:latin typeface="Verdana"/>
              </a:rPr>
              <a:t>Quota locale del curricol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ccff33"/>
                </a:solidFill>
                <a:latin typeface="Verdana"/>
              </a:rPr>
              <a:t>Quota extracurricolare aggiuntiv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3640" y="277920"/>
            <a:ext cx="8569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Curricolo e ordinamenti scolastic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Ogni scuola predispone il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curricolo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all’interno del Piano dell’offerta formativa, nel rispetto delle finalità, de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traguardi per lo sviluppo delle competenz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degl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obiettivi di apprendimento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osti dalle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Indicazioni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Il curricolo si articola attraverso 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campi di esperienza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lla scuola dell’infanzia e attraverso le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discipline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lla scuola d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rimo ciclo”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Da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Indicazioni per il currico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ff33"/>
                </a:solidFill>
                <a:latin typeface="Arial"/>
              </a:rPr>
              <a:t>Curricolo e competenz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Oggi il fine delle istituzioni scolastiche è quello di </a:t>
            </a:r>
            <a:r>
              <a:rPr b="1" i="1" lang="it-IT" sz="4000" spc="-1" strike="noStrike">
                <a:solidFill>
                  <a:srgbClr val="ff3300"/>
                </a:solidFill>
                <a:latin typeface="Verdana"/>
              </a:rPr>
              <a:t>formare competenze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 spendibili (anche) in contesti formativi e professionali diversi da quello scolastic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56800" y="1214280"/>
            <a:ext cx="728676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6000" spc="-1" strike="noStrike">
                <a:solidFill>
                  <a:srgbClr val="ff0000"/>
                </a:solidFill>
                <a:latin typeface="Verdana"/>
              </a:rPr>
              <a:t>Che cosa sono le competenze?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mpetenze (1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«Le competenze sono l’insieme delle buone </a:t>
            </a:r>
            <a:r>
              <a:rPr b="1" i="1" lang="it-IT" sz="2400" spc="-1" strike="noStrike">
                <a:solidFill>
                  <a:srgbClr val="ff6699"/>
                </a:solidFill>
                <a:latin typeface="Verdana"/>
              </a:rPr>
              <a:t>capacità potenzial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di ciascuno portate effettivamente al miglior compimento nelle particolari situazioni date: ovvero indicano </a:t>
            </a: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quello che siamo effettivamente in grado di fare, pensare e agire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, adesso, nell’unità della nostra persona, dinanzi all’unità complessa dei problemi e delle situazioni di un certo tipo (professionali e non professionali) che siamo chiamati ad affrontare e risolvere in un determinato contesto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Mentre le capacità esprimono la forma del nostro essere potenziale, le competenze manifestano, quindi, quella del nostro essere attuale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, nelle diverse contingenze date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cc66"/>
                </a:solidFill>
                <a:latin typeface="Verdana"/>
              </a:rPr>
              <a:t>Da </a:t>
            </a:r>
            <a:r>
              <a:rPr b="0" i="1" lang="it-IT" sz="1800" spc="-1" strike="noStrike">
                <a:solidFill>
                  <a:srgbClr val="ffcc66"/>
                </a:solidFill>
                <a:latin typeface="Verdana"/>
              </a:rPr>
              <a:t>Raccomandazioni, a</a:t>
            </a:r>
            <a:r>
              <a:rPr b="0" lang="it-IT" sz="1800" spc="-1" strike="noStrike">
                <a:solidFill>
                  <a:srgbClr val="ffcc66"/>
                </a:solidFill>
                <a:latin typeface="Verdana"/>
              </a:rPr>
              <a:t>llegate al Decreto n. 59/2004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mpetenze (2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L’agire personale di ciascuno, basato sulle conoscenze e abilità acquisite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, funzionale all’esecuzione di un compito, alla realizzazione di un progetto. Non è mai un agire semplice, atomizzato, astratto, ma è sempre un </a:t>
            </a: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agire complesso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che coinvolge tutta la persona e </a:t>
            </a: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che connette in maniera unitaria e inseparabile i saperi (conoscenze), i saper fare (abilità), i comportamenti individuali e relazionali, gli atteggiamenti emotivi, le scelte valoriali, le motivazioni e i fin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. Per questo, nasce da una continua interazione tra persona, ambiente e società, e tra significati personali e sociali, impliciti ed espliciti».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Da</a:t>
            </a:r>
            <a:r>
              <a:rPr b="0" i="1" lang="it-IT" sz="2000" spc="-1" strike="noStrike">
                <a:solidFill>
                  <a:srgbClr val="ffcc66"/>
                </a:solidFill>
                <a:latin typeface="Verdana"/>
              </a:rPr>
              <a:t> Indicazioni Nazionali (2004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L’</a:t>
            </a:r>
            <a:r>
              <a:rPr b="1" i="1" lang="it-IT" sz="4000" spc="-1" strike="noStrike">
                <a:solidFill>
                  <a:srgbClr val="ccecff"/>
                </a:solidFill>
                <a:latin typeface="Arial"/>
              </a:rPr>
              <a:t>iceberg</a:t>
            </a: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 delle competenz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6" name="Picture 3" descr="mso8A951"/>
          <p:cNvPicPr/>
          <p:nvPr/>
        </p:nvPicPr>
        <p:blipFill>
          <a:blip r:embed="rId1"/>
          <a:stretch/>
        </p:blipFill>
        <p:spPr>
          <a:xfrm>
            <a:off x="457200" y="1143000"/>
            <a:ext cx="8153280" cy="5445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mpetenza (3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1744560"/>
            <a:ext cx="8964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Una competenza è data dall’insieme integrato di </a:t>
            </a:r>
            <a:r>
              <a:rPr b="0" lang="it-IT" sz="3000" spc="-1" strike="noStrike">
                <a:solidFill>
                  <a:srgbClr val="ffcccc"/>
                </a:solidFill>
                <a:latin typeface="Verdana"/>
              </a:rPr>
              <a:t>abilità</a:t>
            </a: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it-IT" sz="3000" spc="-1" strike="noStrike">
                <a:solidFill>
                  <a:srgbClr val="66ffcc"/>
                </a:solidFill>
                <a:latin typeface="Verdana"/>
              </a:rPr>
              <a:t>conoscenze</a:t>
            </a: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 e </a:t>
            </a:r>
            <a:r>
              <a:rPr b="0" lang="it-IT" sz="3000" spc="-1" strike="noStrike">
                <a:solidFill>
                  <a:srgbClr val="ffcc66"/>
                </a:solidFill>
                <a:latin typeface="Verdana"/>
              </a:rPr>
              <a:t>atteggiamenti</a:t>
            </a: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 che un soggetto in determinati contesti reali, utilizzando materiali e strumenti, è in grado di attivare realizzando una prestazione consapevole finalizzata al raggiungi-mento di uno scopo.</a:t>
            </a:r>
            <a:r>
              <a:rPr b="0" lang="it-IT" sz="2400" spc="-1" strike="noStrike">
                <a:solidFill>
                  <a:srgbClr val="000000"/>
                </a:solidFill>
                <a:latin typeface="KTKVGH+TimesNewRomanP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916000" y="475920"/>
            <a:ext cx="3322440" cy="576360"/>
          </a:xfrm>
          <a:prstGeom prst="rect">
            <a:avLst/>
          </a:prstGeom>
          <a:solidFill>
            <a:srgbClr val="ccecff"/>
          </a:solidFill>
          <a:ln w="1908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660033"/>
                </a:solidFill>
                <a:latin typeface="Verdana"/>
              </a:rPr>
              <a:t>Competenz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250920" y="2276640"/>
            <a:ext cx="2665440" cy="576000"/>
          </a:xfrm>
          <a:prstGeom prst="rect">
            <a:avLst/>
          </a:prstGeom>
          <a:solidFill>
            <a:srgbClr val="ff66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Conoscenz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3059280" y="2276640"/>
            <a:ext cx="2449440" cy="576000"/>
          </a:xfrm>
          <a:prstGeom prst="rect">
            <a:avLst/>
          </a:prstGeom>
          <a:solidFill>
            <a:srgbClr val="ff66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Abilit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5651640" y="2276640"/>
            <a:ext cx="3322440" cy="576000"/>
          </a:xfrm>
          <a:prstGeom prst="rect">
            <a:avLst/>
          </a:prstGeom>
          <a:solidFill>
            <a:srgbClr val="ff66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66"/>
                </a:solidFill>
                <a:latin typeface="Verdana"/>
              </a:rPr>
              <a:t>Atteggiamen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Oval 9"/>
          <p:cNvSpPr/>
          <p:nvPr/>
        </p:nvSpPr>
        <p:spPr>
          <a:xfrm>
            <a:off x="468360" y="4437000"/>
            <a:ext cx="8353440" cy="1943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Contest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1476360" y="4941720"/>
            <a:ext cx="6408720" cy="574920"/>
          </a:xfrm>
          <a:prstGeom prst="rect">
            <a:avLst/>
          </a:prstGeom>
          <a:solidFill>
            <a:srgbClr val="ffcc66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2400" spc="-1" strike="noStrike">
                <a:solidFill>
                  <a:srgbClr val="660033"/>
                </a:solidFill>
                <a:latin typeface="Verdana"/>
              </a:rPr>
              <a:t>Prestazione/Compito autentic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AutoShape 13"/>
          <p:cNvSpPr/>
          <p:nvPr/>
        </p:nvSpPr>
        <p:spPr>
          <a:xfrm rot="5400000">
            <a:off x="2770920" y="-531000"/>
            <a:ext cx="144720" cy="5184720"/>
          </a:xfrm>
          <a:custGeom>
            <a:avLst/>
            <a:gdLst>
              <a:gd name="textAreaLeft" fmla="*/ 92520 w 144720"/>
              <a:gd name="textAreaRight" fmla="*/ 145080 w 144720"/>
              <a:gd name="textAreaTop" fmla="*/ 135000 h 5184720"/>
              <a:gd name="textAreaBottom" fmla="*/ 5049720 h 51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971640" y="1557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lang="it-IT" sz="1800" spc="-1" strike="noStrike">
                <a:solidFill>
                  <a:srgbClr val="ccff33"/>
                </a:solidFill>
                <a:latin typeface="Verdana"/>
              </a:rPr>
              <a:t>DISCIPLI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AutoShape 15"/>
          <p:cNvSpPr/>
          <p:nvPr/>
        </p:nvSpPr>
        <p:spPr>
          <a:xfrm rot="5400000">
            <a:off x="7199640" y="440280"/>
            <a:ext cx="216000" cy="3313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86400 h 3313080"/>
              <a:gd name="textAreaBottom" fmla="*/ 3226680 h 33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5364000" y="155736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it-IT" sz="1800" spc="-1" strike="noStrike">
                <a:solidFill>
                  <a:srgbClr val="66ffcc"/>
                </a:solidFill>
                <a:latin typeface="Verdana"/>
              </a:rPr>
              <a:t>TRATTI PERSONAL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Line 17"/>
          <p:cNvSpPr/>
          <p:nvPr/>
        </p:nvSpPr>
        <p:spPr>
          <a:xfrm flipH="1">
            <a:off x="2987640" y="1125360"/>
            <a:ext cx="172872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Line 18"/>
          <p:cNvSpPr/>
          <p:nvPr/>
        </p:nvSpPr>
        <p:spPr>
          <a:xfrm>
            <a:off x="4716360" y="1125360"/>
            <a:ext cx="158436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Line 19"/>
          <p:cNvSpPr/>
          <p:nvPr/>
        </p:nvSpPr>
        <p:spPr>
          <a:xfrm>
            <a:off x="4427640" y="2924280"/>
            <a:ext cx="0" cy="144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Line 24"/>
          <p:cNvSpPr/>
          <p:nvPr/>
        </p:nvSpPr>
        <p:spPr>
          <a:xfrm>
            <a:off x="1476360" y="2852640"/>
            <a:ext cx="280836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Line 25"/>
          <p:cNvSpPr/>
          <p:nvPr/>
        </p:nvSpPr>
        <p:spPr>
          <a:xfrm flipH="1">
            <a:off x="4572000" y="2852640"/>
            <a:ext cx="273672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… </a:t>
            </a: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la sfida della scuola di ogg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i="1" lang="it-IT" sz="4000" spc="-1" strike="noStrike">
                <a:solidFill>
                  <a:srgbClr val="ffffff"/>
                </a:solidFill>
                <a:latin typeface="Verdana"/>
              </a:rPr>
              <a:t>Si tratta di accertare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Verdana"/>
              </a:rPr>
              <a:t>non ciò che lo studente sa,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Verdana"/>
              </a:rPr>
              <a:t>ma ciò che sa fare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Verdana"/>
              </a:rPr>
              <a:t>con ciò che sa”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66"/>
                </a:solidFill>
                <a:latin typeface="Verdana"/>
              </a:rPr>
              <a:t>Grant P. Wiggins (1993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mpetenza (4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«La competenza può essere sommariamente definita come la </a:t>
            </a:r>
            <a:r>
              <a:rPr b="1" lang="it-IT" sz="2800" spc="-1" strike="noStrike">
                <a:solidFill>
                  <a:srgbClr val="ffcc66"/>
                </a:solidFill>
                <a:latin typeface="Verdana"/>
              </a:rPr>
              <a:t>capacità di usare le proprie conoscenze e le proprie abilità per raggiungere un dato obiettivo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(o per fornire una prestazione rispondente a determinati standard di efficacia) in certi contesti. In altri termini, la competenza consisterebbe nella capacità di padroneggiare una conoscenza </a:t>
            </a:r>
            <a:r>
              <a:rPr b="1" lang="it-IT" sz="2800" spc="-1" strike="noStrike">
                <a:solidFill>
                  <a:srgbClr val="ffcc66"/>
                </a:solidFill>
                <a:latin typeface="Verdana"/>
              </a:rPr>
              <a:t>(componente “endogena”)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e di utilizzarla efficacemente </a:t>
            </a:r>
            <a:r>
              <a:rPr b="1" lang="it-IT" sz="2800" spc="-1" strike="noStrike">
                <a:solidFill>
                  <a:srgbClr val="ffcc66"/>
                </a:solidFill>
                <a:latin typeface="Verdana"/>
              </a:rPr>
              <a:t>(componente “esogena”)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in una certa gamma di situazioni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M. Baldacci, </a:t>
            </a:r>
            <a:r>
              <a:rPr b="0" i="1" lang="it-IT" sz="1600" spc="-1" strike="noStrike">
                <a:solidFill>
                  <a:srgbClr val="ffffff"/>
                </a:solidFill>
                <a:latin typeface="Verdana"/>
              </a:rPr>
              <a:t>La didattica per moduli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, Laterza, Roma-Bari, 2003, p. 33.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mpetenze “essenziali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L’attributo di </a:t>
            </a:r>
            <a:r>
              <a:rPr b="0" lang="it-IT" sz="3200" spc="-1" strike="noStrike">
                <a:solidFill>
                  <a:srgbClr val="ffcc66"/>
                </a:solidFill>
                <a:latin typeface="Verdana"/>
              </a:rPr>
              <a:t>«essenzialità»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non è intrinseco all’oggetto (competenza o sapere che sia) e quindi non può riferirsi a standard minimi di competenza, ma va attribuito a ciò che è </a:t>
            </a: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essenziale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per il soggetto al fine di sviluppare al meglio le sue potenzialità, anche quando i livelli di </a:t>
            </a: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padronanza delle competenze saranno raggiunti a livelli divers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Competenza:</a:t>
            </a:r>
            <a:br>
              <a:rPr sz="4000"/>
            </a:b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 tra personalismo e funzionalism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66"/>
                </a:solidFill>
                <a:latin typeface="Verdana"/>
              </a:rPr>
              <a:t>Personalismo: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valorizzazione delle potenzialità e delle capacità individuali dell’alunno attraverso l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</a:rPr>
              <a:t>personalizzazion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dei percorsi formativi che significa sia adattamento delle metodologie a livello individuale (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</a:rPr>
              <a:t>individualizzazion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), ma anche sviluppo di competenze diversificate da soggetto a sogget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6600"/>
                </a:solidFill>
                <a:latin typeface="Verdana"/>
              </a:rPr>
              <a:t>Funzionalismo: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alcune competenze devono essere necessariamente raggiunte da tutti, poiché fungono da presupposto per garantire il pieno esercizio del diritto di cittadinanz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noscenz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Risultato dell'assimilazione di informazioni attraverso l’apprendimento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Le conoscenze sono un insieme di fatti, principi, teorie e pratiche relative ad un settore di lavoro o di studio”.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Esempio:</a:t>
            </a:r>
            <a:r>
              <a:rPr b="0" lang="it-IT" sz="24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-Conoscere le principali strutture grammaticali della lingua italian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-Conoscere gli elementi di base delle funzioni della lingu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Dal </a:t>
            </a:r>
            <a:r>
              <a:rPr b="0" i="1" lang="it-IT" sz="1400" spc="-1" strike="noStrike">
                <a:solidFill>
                  <a:srgbClr val="ffffff"/>
                </a:solidFill>
                <a:latin typeface="Verdana"/>
              </a:rPr>
              <a:t>Quadro europeo delle qualifich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35000" y="304920"/>
            <a:ext cx="8896320" cy="59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… </a:t>
            </a: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E le conoscenze??!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Le conoscenze vengo ad assumere un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ccff33"/>
                </a:solidFill>
                <a:latin typeface="Verdana"/>
              </a:rPr>
              <a:t>valore strumentale</a:t>
            </a: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alla maturazione di </a:t>
            </a:r>
            <a:r>
              <a:rPr b="0" i="1" lang="it-IT" sz="3000" spc="-1" strike="noStrike">
                <a:solidFill>
                  <a:srgbClr val="ff3300"/>
                </a:solidFill>
                <a:latin typeface="Verdana"/>
              </a:rPr>
              <a:t>competenze essenziali</a:t>
            </a: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 trasferibili da un contesto di esperienza all’altr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Stante la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flessibilità dei percors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garantiti dall’autonomia scolastica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ciò che è importante è il conseguimento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delle </a:t>
            </a:r>
            <a:r>
              <a:rPr b="0" i="1" lang="it-IT" sz="2400" spc="-1" strike="noStrike" u="sng">
                <a:solidFill>
                  <a:srgbClr val="ff3300"/>
                </a:solidFill>
                <a:uFillTx/>
                <a:latin typeface="Verdana"/>
              </a:rPr>
              <a:t>competenze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che vanno certific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3" name="Picture 3" descr="j0301252"/>
          <p:cNvPicPr/>
          <p:nvPr/>
        </p:nvPicPr>
        <p:blipFill>
          <a:blip r:embed="rId1"/>
          <a:stretch/>
        </p:blipFill>
        <p:spPr>
          <a:xfrm>
            <a:off x="5867280" y="260280"/>
            <a:ext cx="1513080" cy="12686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4"/>
          <p:cNvSpPr/>
          <p:nvPr/>
        </p:nvSpPr>
        <p:spPr>
          <a:xfrm>
            <a:off x="7596360" y="333360"/>
            <a:ext cx="122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??!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5" name="Picture 5" descr="j0252349"/>
          <p:cNvPicPr/>
          <p:nvPr/>
        </p:nvPicPr>
        <p:blipFill>
          <a:blip r:embed="rId2"/>
          <a:stretch/>
        </p:blipFill>
        <p:spPr>
          <a:xfrm>
            <a:off x="5867280" y="4649760"/>
            <a:ext cx="1657440" cy="1008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j0297707"/>
          <p:cNvPicPr/>
          <p:nvPr/>
        </p:nvPicPr>
        <p:blipFill>
          <a:blip r:embed="rId3"/>
          <a:stretch/>
        </p:blipFill>
        <p:spPr>
          <a:xfrm>
            <a:off x="7956720" y="5229360"/>
            <a:ext cx="1147680" cy="1414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Abilità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78920" y="1530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Indicano le capacità di applicare conoscenze e di utilizzare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know-how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per portare a termine compiti e risolvere problemi. Esse sono sia cognitive (comprendenti l’uso del pensiero logico, intuitivo e creativo) o pratiche (comprendenti l’abilità manuale e l’uso di metodi, materiali, strumenti)”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99"/>
                </a:solidFill>
                <a:latin typeface="Verdana"/>
              </a:rPr>
              <a:t>Esempio:</a:t>
            </a:r>
            <a:r>
              <a:rPr b="0" lang="it-IT" sz="20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Verdan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ffff66"/>
                </a:solidFill>
                <a:latin typeface="Verdana"/>
                <a:ea typeface="Times New Roman"/>
              </a:rPr>
              <a:t>-Trasformare un grafema in fonem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Verdan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ffff66"/>
                </a:solidFill>
                <a:latin typeface="Verdana"/>
                <a:ea typeface="Times New Roman"/>
              </a:rPr>
              <a:t>-Individuare le parti che costituiscono un test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Dal </a:t>
            </a:r>
            <a:r>
              <a:rPr b="0" i="1" lang="it-IT" sz="1800" spc="-1" strike="noStrike">
                <a:solidFill>
                  <a:srgbClr val="ffffff"/>
                </a:solidFill>
                <a:latin typeface="Verdana"/>
              </a:rPr>
              <a:t>Quadro europeo delle qualifich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722160" y="2214720"/>
            <a:ext cx="7772400" cy="371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6000" spc="-1" strike="noStrike">
                <a:solidFill>
                  <a:srgbClr val="ff0000"/>
                </a:solidFill>
                <a:latin typeface="Verdana"/>
              </a:rPr>
              <a:t>Che cosa sono le </a:t>
            </a:r>
            <a:r>
              <a:rPr b="1" i="1" lang="it-IT" sz="6000" spc="-1" strike="noStrike">
                <a:solidFill>
                  <a:srgbClr val="ffc000"/>
                </a:solidFill>
                <a:latin typeface="Verdana"/>
              </a:rPr>
              <a:t>Indicazioni Nazionali per il Curricolo?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6000" spc="-1" strike="noStrike">
                <a:solidFill>
                  <a:srgbClr val="ff0000"/>
                </a:solidFill>
                <a:latin typeface="Verdana"/>
              </a:rPr>
              <a:t>A cosa servono?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Le “</a:t>
            </a:r>
            <a:r>
              <a:rPr b="1" i="1" lang="it-IT" sz="4400" spc="-1" strike="noStrike">
                <a:solidFill>
                  <a:srgbClr val="ffcc66"/>
                </a:solidFill>
                <a:latin typeface="Arial"/>
              </a:rPr>
              <a:t>stagioni”</a:t>
            </a: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 delle </a:t>
            </a:r>
            <a:r>
              <a:rPr b="1" i="1" lang="it-IT" sz="4400" spc="-1" strike="noStrike">
                <a:solidFill>
                  <a:srgbClr val="ffcc66"/>
                </a:solidFill>
                <a:latin typeface="Arial"/>
              </a:rPr>
              <a:t>Indicazion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79280" y="999720"/>
            <a:ext cx="878544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2000-01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legate al riordino dei cicli scolastic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(De Mauro) (L. 30/2000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2004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nazionali per i piani di studio personalizzati e per i piani personalizzati delle attività educativ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(Moratti) (DM. N. 59/2004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2007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</a:t>
            </a:r>
            <a:r>
              <a:rPr b="0" i="1" lang="it-IT" sz="2000" spc="-1" strike="noStrike" u="sng">
                <a:solidFill>
                  <a:srgbClr val="ffffff"/>
                </a:solidFill>
                <a:uFillTx/>
                <a:latin typeface="Verdana"/>
              </a:rPr>
              <a:t>per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il curricolo per la scuola dell’infanzia e per la scuola del primo ciclo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(Fioroni) (DM 31 lug. 07, Direttiva 3 ago. 2007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2009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“Armonizzazione”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nazionali 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Indicazioni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per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il curricolo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(Gelmini) (Atto di indirizzo MIUR, 8 settembre 2009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000"/>
                </a:solidFill>
                <a:latin typeface="Verdana"/>
              </a:rPr>
              <a:t>2011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Nazionali per i Licei e Linee Guida IT e IP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(Gelmini) (2012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000"/>
                </a:solidFill>
                <a:latin typeface="Verdana"/>
              </a:rPr>
              <a:t>2012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Nazionali </a:t>
            </a:r>
            <a:r>
              <a:rPr b="0" i="1" lang="it-IT" sz="2000" spc="-1" strike="noStrike" u="sng">
                <a:solidFill>
                  <a:srgbClr val="ffffff"/>
                </a:solidFill>
                <a:uFillTx/>
                <a:latin typeface="Verdana"/>
              </a:rPr>
              <a:t>per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il curricolo per la scuola dell’infanzia e per la scuola del primo ciclo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(Profuno) (2012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Arial"/>
              </a:rPr>
              <a:t>Livelli della progettazione curricolare:</a:t>
            </a:r>
            <a:br>
              <a:rPr sz="3200"/>
            </a:br>
            <a:r>
              <a:rPr b="1" lang="it-IT" sz="3200" spc="-1" strike="noStrike">
                <a:solidFill>
                  <a:srgbClr val="ffcc66"/>
                </a:solidFill>
                <a:latin typeface="Arial"/>
              </a:rPr>
              <a:t>dal centro alla periferi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416720" cy="4319640"/>
          </a:xfrm>
          <a:prstGeom prst="rect">
            <a:avLst/>
          </a:prstGeom>
          <a:solidFill>
            <a:srgbClr val="ffccff"/>
          </a:solidFill>
          <a:ln w="3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6699"/>
                </a:solidFill>
                <a:latin typeface="Verdana"/>
              </a:rPr>
              <a:t>   </a:t>
            </a:r>
            <a:r>
              <a:rPr b="1" lang="it-IT" sz="3200" spc="-1" strike="noStrike">
                <a:solidFill>
                  <a:srgbClr val="ff6699"/>
                </a:solidFill>
                <a:latin typeface="Verdana"/>
              </a:rPr>
              <a:t>Curricolo Naziona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0000"/>
                </a:solidFill>
                <a:latin typeface="Verdana"/>
              </a:rPr>
              <a:t>Indicazion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4284720" y="3573360"/>
            <a:ext cx="64764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4284720" y="2492280"/>
            <a:ext cx="64764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4284720" y="4653000"/>
            <a:ext cx="647640" cy="720720"/>
          </a:xfrm>
          <a:prstGeom prst="downArrow">
            <a:avLst>
              <a:gd name="adj1" fmla="val 50000"/>
              <a:gd name="adj2" fmla="val 27821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1187280" y="407664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3300"/>
                </a:solidFill>
                <a:latin typeface="Verdana"/>
              </a:rPr>
              <a:t>Autonomia delle istituzioni scolastich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1332000" y="5445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Verdana"/>
              </a:rPr>
              <a:t>Curricolo della scuol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AutoShape 10"/>
          <p:cNvSpPr/>
          <p:nvPr/>
        </p:nvSpPr>
        <p:spPr>
          <a:xfrm>
            <a:off x="324000" y="1700280"/>
            <a:ext cx="2016000" cy="4968720"/>
          </a:xfrm>
          <a:custGeom>
            <a:avLst/>
            <a:gdLst>
              <a:gd name="textAreaLeft" fmla="*/ 270000 w 2016000"/>
              <a:gd name="textAreaRight" fmla="*/ 1746000 w 2016000"/>
              <a:gd name="textAreaTop" fmla="*/ 869400 h 4968720"/>
              <a:gd name="textAreaBottom" fmla="*/ 3602520 h 49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AutoShape 12"/>
          <p:cNvSpPr/>
          <p:nvPr/>
        </p:nvSpPr>
        <p:spPr>
          <a:xfrm flipH="1" flipV="1">
            <a:off x="7020000" y="1124640"/>
            <a:ext cx="1728720" cy="5040360"/>
          </a:xfrm>
          <a:custGeom>
            <a:avLst/>
            <a:gdLst>
              <a:gd name="textAreaLeft" fmla="*/ 231480 w 1728720"/>
              <a:gd name="textAreaRight" fmla="*/ 1497240 w 1728720"/>
              <a:gd name="textAreaTop" fmla="*/ 882000 h 5040360"/>
              <a:gd name="textAreaBottom" fmla="*/ 3654360 h 50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07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Indicazioni</a:t>
            </a:r>
            <a:r>
              <a:rPr b="1" lang="it-IT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 </a:t>
            </a:r>
            <a:r>
              <a:rPr b="1" i="1" lang="it-IT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nazionali</a:t>
            </a:r>
            <a:r>
              <a:rPr b="1" lang="it-IT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 e curricolo unitario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28400" y="785880"/>
            <a:ext cx="8715240" cy="58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231f20"/>
                </a:solidFill>
                <a:latin typeface="Verdana"/>
                <a:ea typeface="Times New Roman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6699"/>
                </a:solidFill>
                <a:latin typeface="Verdana"/>
                <a:ea typeface="Times New Roman"/>
              </a:rPr>
              <a:t>curricolo unitario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riferito a </a:t>
            </a:r>
            <a:r>
              <a:rPr b="0" lang="it-IT" sz="40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tre gradi diversi di scuola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e biennio scuola secondaria di II grad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collocato all’interno di una </a:t>
            </a:r>
            <a:r>
              <a:rPr b="0" lang="it-IT" sz="40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medesima </a:t>
            </a:r>
            <a:r>
              <a:rPr b="0" lang="it-IT" sz="4000" spc="-1" strike="noStrike" u="sng">
                <a:solidFill>
                  <a:srgbClr val="ffc000"/>
                </a:solidFill>
                <a:uFillTx/>
                <a:latin typeface="Verdana"/>
                <a:ea typeface="Times New Roman"/>
              </a:rPr>
              <a:t>cornice culturale</a:t>
            </a:r>
            <a:r>
              <a:rPr b="0" lang="it-IT" sz="4000" spc="-1" strike="noStrike">
                <a:solidFill>
                  <a:srgbClr val="ffc000"/>
                </a:solidFill>
                <a:latin typeface="Verdana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ed una </a:t>
            </a:r>
            <a:r>
              <a:rPr b="0" lang="it-IT" sz="40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medesima </a:t>
            </a:r>
            <a:r>
              <a:rPr b="0" lang="it-IT" sz="4000" spc="-1" strike="noStrike" u="sng">
                <a:solidFill>
                  <a:srgbClr val="ffc000"/>
                </a:solidFill>
                <a:uFillTx/>
                <a:latin typeface="Verdana"/>
                <a:ea typeface="Times New Roman"/>
              </a:rPr>
              <a:t>struttura organizzativa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Parole-chiave </a:t>
            </a:r>
            <a:br>
              <a:rPr sz="4400"/>
            </a:br>
            <a:r>
              <a:rPr b="1" i="1" lang="it-IT" sz="3200" spc="-1" strike="noStrike">
                <a:solidFill>
                  <a:srgbClr val="ff0000"/>
                </a:solidFill>
                <a:latin typeface="Arial"/>
              </a:rPr>
              <a:t>(… da dove veniamo, …per andare dove…?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9680" y="1571760"/>
            <a:ext cx="818676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66"/>
                </a:solidFill>
                <a:latin typeface="Verdana"/>
              </a:rPr>
              <a:t>- Scuola dell’alfabetizzazione (di base e cultural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6699"/>
                </a:solidFill>
                <a:latin typeface="Verdana"/>
              </a:rPr>
              <a:t>Programm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66"/>
                </a:solidFill>
                <a:latin typeface="Verdana"/>
              </a:rPr>
              <a:t>Programmazion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cc33"/>
                </a:solidFill>
                <a:latin typeface="Verdana"/>
              </a:rPr>
              <a:t>Curricolo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Verdana"/>
              </a:rPr>
              <a:t>Progettazion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395280" y="4149720"/>
            <a:ext cx="8424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419640" y="4005360"/>
            <a:ext cx="24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168440" y="393372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ccecff"/>
                </a:solidFill>
                <a:latin typeface="Verdana"/>
              </a:rPr>
              <a:t>199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395280" y="4292640"/>
            <a:ext cx="32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Verdana"/>
              </a:rPr>
              <a:t>- Scuola dell’autonomia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Verdana"/>
              </a:rPr>
              <a:t>e delle competenz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28400" y="428760"/>
            <a:ext cx="8429400" cy="52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000"/>
                </a:solidFill>
                <a:latin typeface="Verdana"/>
                <a:ea typeface="Times New Roman"/>
              </a:rPr>
              <a:t>Cornice culturale: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ersona, Cultura, Scuol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La scuola nel nuovo scenario sociale e culturale (complessità, globalizzazione, interculturalità, digitalizzazione, ecc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Centralità delle persona nel suo sviluppo globale e armonico (irriducibilità, irripetibilità, inviolabilità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er una nuova cittadinanza (più coesione sociale, più competenze, più inclusion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er un nuovo umanesimo (incontro tra saperi umanistici e saperi scientifici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7200" y="357120"/>
            <a:ext cx="822960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000"/>
                </a:solidFill>
                <a:latin typeface="Verdana"/>
                <a:ea typeface="Times New Roman"/>
              </a:rPr>
              <a:t>Struttura organizzativa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Ogni scuola predispone il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curricolo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all’interno del Piano dell’offerta formativa con riferimento al Profilo dello studente al termine del primo ciclo di istruzione, a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traguardi per lo sviluppo delle competenz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agl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obiettivi di apprendimento specifici per ogni disciplina”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Il curricolo si articola attraverso 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campi di esperienza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lla scuola dell’infanzia e attraverso le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discipline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lla scuola d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rimo ciclo”.                     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(Indicazioni, 2012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000"/>
                </a:solidFill>
                <a:latin typeface="Verdana"/>
              </a:rPr>
              <a:t>  </a:t>
            </a:r>
            <a:r>
              <a:rPr b="0" lang="it-IT" sz="2800" spc="-1" strike="noStrike">
                <a:solidFill>
                  <a:srgbClr val="ffc000"/>
                </a:solidFill>
                <a:latin typeface="Verdana"/>
              </a:rPr>
              <a:t>Non sono più previste le </a:t>
            </a:r>
            <a:r>
              <a:rPr b="0" i="1" lang="it-IT" sz="2800" spc="-1" strike="noStrike">
                <a:solidFill>
                  <a:srgbClr val="ffc000"/>
                </a:solidFill>
                <a:latin typeface="Verdana"/>
              </a:rPr>
              <a:t>“aree disciplinari”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723520" cy="93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I traguardi per lo sviluppo delle competenze</a:t>
            </a:r>
            <a:r>
              <a:rPr b="0" lang="it-IT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893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Rappresentano riferimenti per gli insegnanti, indicano piste da percorrere e </a:t>
            </a:r>
            <a:r>
              <a:rPr b="1" lang="it-IT" sz="2200" spc="-1" strike="noStrike">
                <a:solidFill>
                  <a:srgbClr val="ffcc66"/>
                </a:solidFill>
                <a:latin typeface="Verdana"/>
              </a:rPr>
              <a:t>aiutano a finalizzare l’azione educativa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 allo sviluppo integrale dell’alunno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cccc"/>
                </a:solidFill>
                <a:latin typeface="Verdana"/>
              </a:rPr>
              <a:t>Nella scuola dell’infanzia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suggeriscono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 all’insegnante </a:t>
            </a: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orientamenti, attenzioni e responsabilità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 per favorire esperienze volte allo sviluppo della competenza, che a questa età va inteso in modo globale e unitario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Verdana"/>
              </a:rPr>
              <a:t>Nella scuola del primo ciclo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favoriscono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 l’</a:t>
            </a: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apprendimento 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e la </a:t>
            </a: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costruzione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 dell’</a:t>
            </a: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identità 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degli alunni ponendo le basi per lo sviluppo delle competenze indispensabili per continuare ad apprendere a scuola e lungo l’intero arco della vita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cc66"/>
                </a:solidFill>
                <a:latin typeface="Verdana"/>
              </a:rPr>
              <a:t>Da </a:t>
            </a:r>
            <a:r>
              <a:rPr b="0" i="1" lang="it-IT" sz="1800" spc="-1" strike="noStrike">
                <a:solidFill>
                  <a:srgbClr val="ffcc66"/>
                </a:solidFill>
                <a:latin typeface="Verdana"/>
              </a:rPr>
              <a:t>Indicazioni per il curricol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Traguardi per </a:t>
            </a:r>
            <a:br>
              <a:rPr sz="4400"/>
            </a:b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“</a:t>
            </a:r>
            <a:r>
              <a:rPr b="1" i="1" lang="it-IT" sz="4400" spc="-1" strike="noStrike">
                <a:solidFill>
                  <a:srgbClr val="ffcc66"/>
                </a:solidFill>
                <a:latin typeface="Arial"/>
              </a:rPr>
              <a:t>quali competenze”</a:t>
            </a: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6600"/>
                </a:solidFill>
                <a:latin typeface="Verdana"/>
              </a:rPr>
              <a:t>Competenze disciplinar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i="1" lang="it-IT" sz="2000" spc="-1" strike="noStrike" u="sng">
                <a:solidFill>
                  <a:srgbClr val="ffffff"/>
                </a:solidFill>
                <a:uFillTx/>
                <a:latin typeface="Verdana"/>
              </a:rPr>
              <a:t>Le competenze sviluppate nell’ambito delle singole discipline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concorrono a loro volta alla promozione di </a:t>
            </a:r>
            <a:r>
              <a:rPr b="1" i="1" lang="it-IT" sz="2000" spc="-1" strike="noStrike">
                <a:solidFill>
                  <a:srgbClr val="ffffff"/>
                </a:solidFill>
                <a:latin typeface="Verdana"/>
              </a:rPr>
              <a:t>competenze più ampie e trasversali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, che rappresentano una condizione essenziale per la piena realizzazione personale e per la partecipazione attiva alla vita sociale”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0000"/>
                </a:solidFill>
                <a:latin typeface="Verdana"/>
              </a:rPr>
              <a:t>Competenze trasversal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Le </a:t>
            </a:r>
            <a:r>
              <a:rPr b="0" i="1" lang="it-IT" sz="2000" spc="-1" strike="noStrike" u="sng">
                <a:solidFill>
                  <a:srgbClr val="ffffff"/>
                </a:solidFill>
                <a:uFillTx/>
                <a:latin typeface="Verdana"/>
              </a:rPr>
              <a:t>competenze per l’esercizio della cittadinanza attiva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sono promosse continuamente </a:t>
            </a:r>
            <a:r>
              <a:rPr b="1" i="1" lang="it-IT" sz="2000" spc="-1" strike="noStrike">
                <a:solidFill>
                  <a:srgbClr val="ffffff"/>
                </a:solidFill>
                <a:latin typeface="Verdana"/>
              </a:rPr>
              <a:t>nell’ambito di tutte le attività di apprendimento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, utilizzando e finalizzando opportunamente i contributi ch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ciascuna disciplina può offrire”.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ecff"/>
                </a:solidFill>
                <a:latin typeface="Verdana"/>
              </a:rPr>
              <a:t>Da </a:t>
            </a:r>
            <a:r>
              <a:rPr b="0" i="1" lang="it-IT" sz="2000" spc="-1" strike="noStrike">
                <a:solidFill>
                  <a:srgbClr val="ccecff"/>
                </a:solidFill>
                <a:latin typeface="Verdana"/>
              </a:rPr>
              <a:t>Indicazioni per il curricol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Traguardi e Obiettivi di apprendimen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Sono </a:t>
            </a:r>
            <a:r>
              <a:rPr b="1" lang="it-IT" sz="2000" spc="-1" strike="noStrike">
                <a:solidFill>
                  <a:srgbClr val="ff0000"/>
                </a:solidFill>
                <a:latin typeface="Verdana"/>
              </a:rPr>
              <a:t>obiettivi ritenuti strategic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al fine di raggiungere i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traguardi per lo sviluppo delle competenz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previsti dalle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Indicazion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Propongono oggetti conoscitivi: </a:t>
            </a:r>
            <a:r>
              <a:rPr b="0" lang="it-IT" sz="2000" spc="-1" strike="noStrike">
                <a:solidFill>
                  <a:srgbClr val="cc6600"/>
                </a:solidFill>
                <a:latin typeface="Verdana"/>
              </a:rPr>
              <a:t>Conoscenz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e </a:t>
            </a:r>
            <a:r>
              <a:rPr b="1" lang="it-IT" sz="2000" spc="-1" strike="noStrike">
                <a:solidFill>
                  <a:srgbClr val="00b050"/>
                </a:solidFill>
                <a:latin typeface="Verdana"/>
              </a:rPr>
              <a:t>Abilit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DEFINITI AL TERMINE DELLA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CLASSE TERZA DELLA SCUOLA PRIMARIA (</a:t>
            </a:r>
            <a:r>
              <a:rPr b="1" i="1" lang="it-IT" sz="1600" spc="-1" strike="noStrike">
                <a:solidFill>
                  <a:srgbClr val="ffffff"/>
                </a:solidFill>
                <a:latin typeface="Verdana"/>
              </a:rPr>
              <a:t>escluso musica, educazione fisica, tecnologia, arte e immagine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CLASSE QUINTA DELLA SCUOLA PRIMARI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CLASSE TERZA DELLA SCUOLA SECONDARIA DI I PRIMO GRAD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Obiettivi di apprendiment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Oval 4"/>
          <p:cNvSpPr/>
          <p:nvPr/>
        </p:nvSpPr>
        <p:spPr>
          <a:xfrm>
            <a:off x="1523880" y="5257800"/>
            <a:ext cx="2233800" cy="647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b76"/>
                </a:solidFill>
                <a:latin typeface="Verdana"/>
              </a:rPr>
              <a:t>conoscenz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Oval 5"/>
          <p:cNvSpPr/>
          <p:nvPr/>
        </p:nvSpPr>
        <p:spPr>
          <a:xfrm>
            <a:off x="5181480" y="5257800"/>
            <a:ext cx="2233800" cy="647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b76"/>
                </a:solidFill>
                <a:latin typeface="Verdana"/>
              </a:rPr>
              <a:t>abilit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826920" y="6324480"/>
            <a:ext cx="7201080" cy="2732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b76"/>
                </a:solidFill>
                <a:latin typeface="Verdana"/>
              </a:rPr>
              <a:t>TRAGUARDI PER LO SVILUPPO DELLE COMPETENZ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AutoShape 7"/>
          <p:cNvSpPr/>
          <p:nvPr/>
        </p:nvSpPr>
        <p:spPr>
          <a:xfrm rot="10800000">
            <a:off x="3962520" y="5410080"/>
            <a:ext cx="1008000" cy="720720"/>
          </a:xfrm>
          <a:prstGeom prst="pi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Curricolo verticale e progressiv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ll’interno del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imo cicl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l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atica della continuità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educativa e didattica è resa perseguibile dalla presenza delle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tess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iscipline,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comuni sia alla scuola primaria che alla scuola secondaria di primo grado.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continuità educativa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si realizza attraverso il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curricolo unitari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non per mezzo di progetti ad </a:t>
            </a:r>
            <a:r>
              <a:rPr b="0" i="1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ho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verticalità del curricol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è garantita dall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progressione e dalla gradualità dei </a:t>
            </a:r>
            <a:r>
              <a:rPr b="0" i="1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traguardi per lo sviluppo delle competenz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tra i vari segmenti scolastici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252360" y="189000"/>
            <a:ext cx="964872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ecff"/>
                </a:solidFill>
                <a:latin typeface="Arial"/>
              </a:rPr>
              <a:t>Unitarietà e progressione dei Traguardi/Competenze di base</a:t>
            </a:r>
            <a:br>
              <a:rPr sz="20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Esempio: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it-IT" sz="2000" spc="-1" strike="noStrike">
                <a:solidFill>
                  <a:srgbClr val="ffffff"/>
                </a:solidFill>
                <a:latin typeface="Verdana"/>
              </a:rPr>
              <a:t>Discorsi e le parole/Italian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Verdana"/>
              </a:rPr>
              <a:t>Competenza: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it-IT" sz="2000" spc="-1" strike="noStrike">
                <a:solidFill>
                  <a:srgbClr val="ffffff"/>
                </a:solidFill>
                <a:latin typeface="Verdana"/>
              </a:rPr>
              <a:t>Comunica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79280" y="2133720"/>
          <a:ext cx="8785440" cy="4508280"/>
        </p:xfrm>
        <a:graphic>
          <a:graphicData uri="http://schemas.openxmlformats.org/drawingml/2006/table">
            <a:tbl>
              <a:tblPr/>
              <a:tblGrid>
                <a:gridCol w="2156040"/>
                <a:gridCol w="6629400"/>
              </a:tblGrid>
              <a:tr h="83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Scuol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ccff"/>
                          </a:solidFill>
                          <a:latin typeface="Arial"/>
                          <a:ea typeface="Times New Roman"/>
                        </a:rPr>
                        <a:t>TRAGUARDI PER LO SVILUPPO DELLE COMPETENZE E COMPETENZE DI B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cccc"/>
                          </a:solidFill>
                          <a:latin typeface="Verdana"/>
                        </a:rPr>
                        <a:t>Infanz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  <a:ea typeface="Times New Roman"/>
                        </a:rPr>
                        <a:t>Sviluppa fiducia e motivazione nell’esprimere e comunicare agli altri le proprie emozioni, le proprie domande, i propri ragionamenti e i propri pensieri attraverso il linguaggio verbale, utilizzandolo in modo differenziato e appropriato nelle diverse attività.</a:t>
                      </a: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cccc"/>
                          </a:solidFill>
                          <a:latin typeface="Verdana"/>
                        </a:rPr>
                        <a:t>Primar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</a:rPr>
                        <a:t>L’alunno partecipa a scambi comunicativi con compagni e docenti (conversazione, discussione, scambi epistolari…) attraverso messaggi semplici, chiari e pertinenti, formulati in un registro il più possibile adeguato alla situazion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7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cccc"/>
                          </a:solidFill>
                          <a:latin typeface="Verdana"/>
                        </a:rPr>
                        <a:t>Secondaria di I grad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_________________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cccc"/>
                          </a:solidFill>
                          <a:latin typeface="Verdana"/>
                        </a:rPr>
                        <a:t>Secondaria di II grad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cccc"/>
                          </a:solidFill>
                          <a:latin typeface="Verdana"/>
                        </a:rPr>
                        <a:t>(biennio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  <a:ea typeface="Times New Roman"/>
                        </a:rPr>
                        <a:t>Usa in modo efficace la comunicazione orale e scritta per collaborare con gli altri, per esempio nella realizzazione di giochi, nell’elaborazione di progetti e nella valutazione dell’efficacia di diverse soluzioni di un problem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400" spc="-1" strike="noStrike">
                          <a:solidFill>
                            <a:srgbClr val="ffffff"/>
                          </a:solidFill>
                          <a:latin typeface="AGaramond-Regular"/>
                        </a:rPr>
                        <a:t>________________________________________________________________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</a:rPr>
                        <a:t>-Padroneggia gli strumenti espressivi ed argomentativi indispensabili per gestire   l’interazione comunicativa verbale in vari contesti;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</a:rPr>
                        <a:t>-</a:t>
                      </a: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  <a:ea typeface="Times New Roman"/>
                        </a:rPr>
                        <a:t>Produrre testi di vario tipo in relazione ai differenti scopi comunicativ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Traguardi e certificazione delle competenz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I traguardi in quanto competenze previste al termine di un titolo di studio devono essere attentamente certifica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La certificazione delle competenze non ha senso se non è riferita ad un curricolo per competenze definito a livello di istitut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Certificazione delle competenz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Processo/Prodotto successivo alle procedure di valutazione, mediante il quale la scuola attesta a terzi l’autenticità, validità e attendibilità delle competenze conseguite al termine di un percorso di studi, in maniera tale che dette competenze possano essere riconosciute all’esterno da diverse agenzi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362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ecff"/>
                </a:solidFill>
                <a:latin typeface="Arial"/>
              </a:rPr>
              <a:t>Certificazione delle competenze: </a:t>
            </a:r>
            <a:br>
              <a:rPr sz="3200"/>
            </a:br>
            <a:r>
              <a:rPr b="1" lang="it-IT" sz="3200" spc="-1" strike="noStrike">
                <a:solidFill>
                  <a:srgbClr val="ccecff"/>
                </a:solidFill>
                <a:latin typeface="Arial"/>
              </a:rPr>
              <a:t>traguardi e </a:t>
            </a:r>
            <a:r>
              <a:rPr b="1" i="1" lang="it-IT" sz="3200" spc="-1" strike="noStrike">
                <a:solidFill>
                  <a:srgbClr val="ccecff"/>
                </a:solidFill>
                <a:latin typeface="Arial"/>
              </a:rPr>
              <a:t>descrittori di competenz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La certificazione delle competenze sarebbe più opportuno che fosse riferita ad appositi descrittori riferiti a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traguardi di sviluppo delle competenz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poiché (talvolta) questi ultimi risultano essere troppo amp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cessità di articolare i “traguardi” in “descrittori” di competenz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Sono i descrittori che danno conto della personalizzazione dei percorsi formativi, sia rispetto ai livelli di essenzialità delle competenze che ai “talenti” personali manifestati dagli alunn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99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Dal programma alla programmazion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Verdana"/>
              </a:rPr>
              <a:t>Programma: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- Il manifesto culturale nazionale scritto dal legislatore che esplicita obiettivi e contenuti disciplinar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Caratteristiche principali: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Validità naziona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 Prescrittivit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6600"/>
                </a:solidFill>
                <a:latin typeface="Verdana"/>
              </a:rPr>
              <a:t>Programmazione: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L’edizione locale del manifesto nazionale, che tiene conto delle specificità dei contesti e dei soggetti coinvolti nel processo formativ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Caratteristiche principal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Dimensione loca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 Flessibilità didattico-organizzativ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 Programmazione educativ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 Programmazione didattic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it-IT" sz="5400" spc="-1" strike="noStrike">
                <a:solidFill>
                  <a:srgbClr val="c00000"/>
                </a:solidFill>
                <a:latin typeface="Arial"/>
              </a:rPr>
              <a:t>Come progettare </a:t>
            </a:r>
            <a:br>
              <a:rPr sz="5400"/>
            </a:br>
            <a:r>
              <a:rPr b="1" i="1" lang="it-IT" sz="5400" spc="-1" strike="noStrike">
                <a:solidFill>
                  <a:srgbClr val="c00000"/>
                </a:solidFill>
                <a:latin typeface="Arial"/>
              </a:rPr>
              <a:t>in concreto</a:t>
            </a:r>
            <a:br>
              <a:rPr sz="5400"/>
            </a:br>
            <a:r>
              <a:rPr b="1" i="1" lang="it-IT" sz="5400" spc="-1" strike="noStrike">
                <a:solidFill>
                  <a:srgbClr val="c00000"/>
                </a:solidFill>
                <a:latin typeface="Arial"/>
              </a:rPr>
              <a:t>il curricolo di scuola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66"/>
                </a:solidFill>
                <a:latin typeface="Arial"/>
              </a:rPr>
              <a:t>Provvedimenti europei e nazionali sul curricolo per competenze</a:t>
            </a: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445240" cy="4441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Raccomandazione del Parlamento europeo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   </a:t>
            </a: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e del Consiglio del 18 dic. 2006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Nuovo obbligo di istruzione a 16 anni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  </a:t>
            </a: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(L. 26 dic. 2006, n. 296 e Decreto 22 ago. 2007)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Indicazioni Nazionali per il curricolo (infanzia/I ciclo – 2012; Licei-Linee Guida IT e IP - 2011)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692360" y="2492280"/>
            <a:ext cx="59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ecff"/>
                </a:solidFill>
                <a:latin typeface="Arial"/>
              </a:rPr>
              <a:t>Il modello di progettazione dalle recenti politiche europee e nazionali per l’istruzion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2895480" y="1143000"/>
            <a:ext cx="5637240" cy="276480"/>
          </a:xfrm>
          <a:prstGeom prst="rect">
            <a:avLst/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Competenze chiave per l’apprendimento permanent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3643200" y="4005360"/>
            <a:ext cx="5321520" cy="785520"/>
          </a:xfrm>
          <a:prstGeom prst="rect">
            <a:avLst/>
          </a:prstGeom>
          <a:solidFill>
            <a:srgbClr val="ffcc66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Verdana"/>
              </a:rPr>
              <a:t>Discipli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2987640" y="2781360"/>
            <a:ext cx="5543640" cy="276480"/>
          </a:xfrm>
          <a:prstGeom prst="rect">
            <a:avLst/>
          </a:prstGeom>
          <a:solidFill>
            <a:srgbClr val="ff6699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Competenze di base dell’obbligo di istruzion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1908000" y="4005360"/>
            <a:ext cx="1697040" cy="642600"/>
          </a:xfrm>
          <a:prstGeom prst="rect">
            <a:avLst/>
          </a:prstGeom>
          <a:solidFill>
            <a:srgbClr val="ff66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Verdana"/>
              </a:rPr>
              <a:t>Campi di esperienz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1908000" y="5229360"/>
            <a:ext cx="7056720" cy="368280"/>
          </a:xfrm>
          <a:prstGeom prst="rect">
            <a:avLst/>
          </a:prstGeom>
          <a:solidFill>
            <a:srgbClr val="ccff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Verdana"/>
              </a:rPr>
              <a:t>Traguardi per lo sviluppo delle competenz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7238880" y="5105520"/>
            <a:ext cx="1905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Line 16"/>
          <p:cNvSpPr/>
          <p:nvPr/>
        </p:nvSpPr>
        <p:spPr>
          <a:xfrm>
            <a:off x="4572000" y="22860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Line 21"/>
          <p:cNvSpPr/>
          <p:nvPr/>
        </p:nvSpPr>
        <p:spPr>
          <a:xfrm>
            <a:off x="3780000" y="35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Text Box 32"/>
          <p:cNvSpPr/>
          <p:nvPr/>
        </p:nvSpPr>
        <p:spPr>
          <a:xfrm>
            <a:off x="3132000" y="5950080"/>
            <a:ext cx="5400720" cy="337320"/>
          </a:xfrm>
          <a:prstGeom prst="rect">
            <a:avLst/>
          </a:prstGeom>
          <a:solidFill>
            <a:srgbClr val="66ffcc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99"/>
                </a:solidFill>
                <a:latin typeface="Verdana"/>
              </a:rPr>
              <a:t>Obiettivi di apprendimento (abilità e conoscenze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Line 37"/>
          <p:cNvSpPr/>
          <p:nvPr/>
        </p:nvSpPr>
        <p:spPr>
          <a:xfrm flipH="1" flipV="1">
            <a:off x="1692000" y="1267920"/>
            <a:ext cx="44280" cy="4870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Text Box 39"/>
          <p:cNvSpPr/>
          <p:nvPr/>
        </p:nvSpPr>
        <p:spPr>
          <a:xfrm>
            <a:off x="2987640" y="1905120"/>
            <a:ext cx="5472000" cy="276480"/>
          </a:xfrm>
          <a:prstGeom prst="rect">
            <a:avLst/>
          </a:prstGeom>
          <a:solidFill>
            <a:srgbClr val="ffff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Verdana"/>
              </a:rPr>
              <a:t>Competenze chiave di cittadinanza per l’obbligo scolastic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Line 42"/>
          <p:cNvSpPr/>
          <p:nvPr/>
        </p:nvSpPr>
        <p:spPr>
          <a:xfrm>
            <a:off x="4572000" y="15238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Text Box 43"/>
          <p:cNvSpPr/>
          <p:nvPr/>
        </p:nvSpPr>
        <p:spPr>
          <a:xfrm>
            <a:off x="4572000" y="3068640"/>
            <a:ext cx="1152360" cy="459000"/>
          </a:xfrm>
          <a:prstGeom prst="rect">
            <a:avLst/>
          </a:prstGeom>
          <a:solidFill>
            <a:srgbClr val="ffffcc"/>
          </a:solidFill>
          <a:ln w="1908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Verdana"/>
              </a:rPr>
              <a:t>Asse matematic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Text Box 44"/>
          <p:cNvSpPr/>
          <p:nvPr/>
        </p:nvSpPr>
        <p:spPr>
          <a:xfrm>
            <a:off x="3059280" y="3068640"/>
            <a:ext cx="1511280" cy="276480"/>
          </a:xfrm>
          <a:prstGeom prst="rect">
            <a:avLst/>
          </a:prstGeom>
          <a:solidFill>
            <a:srgbClr val="ffcccc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Verdana"/>
              </a:rPr>
              <a:t>Asse dei linguaggi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Text Box 45"/>
          <p:cNvSpPr/>
          <p:nvPr/>
        </p:nvSpPr>
        <p:spPr>
          <a:xfrm>
            <a:off x="5724360" y="3068640"/>
            <a:ext cx="1511640" cy="459000"/>
          </a:xfrm>
          <a:prstGeom prst="rect">
            <a:avLst/>
          </a:prstGeom>
          <a:solidFill>
            <a:srgbClr val="66cc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Verdana"/>
              </a:rPr>
              <a:t>Asse scientifico-tecnologic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Text Box 47"/>
          <p:cNvSpPr/>
          <p:nvPr/>
        </p:nvSpPr>
        <p:spPr>
          <a:xfrm>
            <a:off x="7236000" y="3068640"/>
            <a:ext cx="1223640" cy="459000"/>
          </a:xfrm>
          <a:prstGeom prst="rect">
            <a:avLst/>
          </a:prstGeom>
          <a:solidFill>
            <a:srgbClr val="ffcccc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Verdana"/>
              </a:rPr>
              <a:t>Asse storico-social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Line 48"/>
          <p:cNvSpPr/>
          <p:nvPr/>
        </p:nvSpPr>
        <p:spPr>
          <a:xfrm>
            <a:off x="5148360" y="35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Line 49"/>
          <p:cNvSpPr/>
          <p:nvPr/>
        </p:nvSpPr>
        <p:spPr>
          <a:xfrm>
            <a:off x="6443640" y="35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Line 50"/>
          <p:cNvSpPr/>
          <p:nvPr/>
        </p:nvSpPr>
        <p:spPr>
          <a:xfrm>
            <a:off x="7885080" y="35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Line 57"/>
          <p:cNvSpPr/>
          <p:nvPr/>
        </p:nvSpPr>
        <p:spPr>
          <a:xfrm>
            <a:off x="4500720" y="486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Line 58"/>
          <p:cNvSpPr/>
          <p:nvPr/>
        </p:nvSpPr>
        <p:spPr>
          <a:xfrm>
            <a:off x="6300720" y="486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Line 59"/>
          <p:cNvSpPr/>
          <p:nvPr/>
        </p:nvSpPr>
        <p:spPr>
          <a:xfrm>
            <a:off x="8101080" y="486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Line 60"/>
          <p:cNvSpPr/>
          <p:nvPr/>
        </p:nvSpPr>
        <p:spPr>
          <a:xfrm>
            <a:off x="5796000" y="566100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Line 61"/>
          <p:cNvSpPr/>
          <p:nvPr/>
        </p:nvSpPr>
        <p:spPr>
          <a:xfrm>
            <a:off x="2700360" y="4653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Line 62"/>
          <p:cNvSpPr/>
          <p:nvPr/>
        </p:nvSpPr>
        <p:spPr>
          <a:xfrm>
            <a:off x="1763640" y="616572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Line 64"/>
          <p:cNvSpPr/>
          <p:nvPr/>
        </p:nvSpPr>
        <p:spPr>
          <a:xfrm>
            <a:off x="1692360" y="206064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Line 65"/>
          <p:cNvSpPr/>
          <p:nvPr/>
        </p:nvSpPr>
        <p:spPr>
          <a:xfrm>
            <a:off x="1692360" y="1268280"/>
            <a:ext cx="1150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Line 66"/>
          <p:cNvSpPr/>
          <p:nvPr/>
        </p:nvSpPr>
        <p:spPr>
          <a:xfrm>
            <a:off x="1692360" y="292428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Text Box 67"/>
          <p:cNvSpPr/>
          <p:nvPr/>
        </p:nvSpPr>
        <p:spPr>
          <a:xfrm>
            <a:off x="179280" y="1125360"/>
            <a:ext cx="1297080" cy="894600"/>
          </a:xfrm>
          <a:prstGeom prst="rect">
            <a:avLst/>
          </a:prstGeom>
          <a:solidFill>
            <a:srgbClr val="ff66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3b76"/>
                </a:solidFill>
                <a:latin typeface="Verdana"/>
              </a:rPr>
              <a:t>Dimensione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3b76"/>
                </a:solidFill>
                <a:latin typeface="Verdana"/>
              </a:rPr>
              <a:t> </a:t>
            </a:r>
            <a:r>
              <a:rPr b="0" lang="it-IT" sz="1300" spc="-1" strike="noStrike">
                <a:solidFill>
                  <a:srgbClr val="003b76"/>
                </a:solidFill>
                <a:latin typeface="Verdana"/>
              </a:rPr>
              <a:t>formativa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3b76"/>
                </a:solidFill>
                <a:latin typeface="Verdana"/>
              </a:rPr>
              <a:t> </a:t>
            </a:r>
            <a:r>
              <a:rPr b="0" lang="it-IT" sz="1300" spc="-1" strike="noStrike">
                <a:solidFill>
                  <a:srgbClr val="003b76"/>
                </a:solidFill>
                <a:latin typeface="Verdana"/>
              </a:rPr>
              <a:t>del Curricolo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Text Box 68"/>
          <p:cNvSpPr/>
          <p:nvPr/>
        </p:nvSpPr>
        <p:spPr>
          <a:xfrm>
            <a:off x="179280" y="2781360"/>
            <a:ext cx="1297080" cy="3435480"/>
          </a:xfrm>
          <a:prstGeom prst="rect">
            <a:avLst/>
          </a:prstGeom>
          <a:solidFill>
            <a:srgbClr val="ffcc66"/>
          </a:solidFill>
          <a:ln w="1908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Dimensione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didattica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del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Curricolo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AutoShape 69"/>
          <p:cNvSpPr/>
          <p:nvPr/>
        </p:nvSpPr>
        <p:spPr>
          <a:xfrm>
            <a:off x="1547640" y="1197000"/>
            <a:ext cx="71640" cy="936720"/>
          </a:xfrm>
          <a:custGeom>
            <a:avLst/>
            <a:gdLst>
              <a:gd name="textAreaLeft" fmla="*/ 45720 w 71640"/>
              <a:gd name="textAreaRight" fmla="*/ 72000 w 71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AutoShape 71"/>
          <p:cNvSpPr/>
          <p:nvPr/>
        </p:nvSpPr>
        <p:spPr>
          <a:xfrm>
            <a:off x="1547640" y="2852640"/>
            <a:ext cx="71640" cy="3384720"/>
          </a:xfrm>
          <a:custGeom>
            <a:avLst/>
            <a:gdLst>
              <a:gd name="textAreaLeft" fmla="*/ 45720 w 71640"/>
              <a:gd name="textAreaRight" fmla="*/ 72000 w 71640"/>
              <a:gd name="textAreaTop" fmla="*/ 88200 h 3384720"/>
              <a:gd name="textAreaBottom" fmla="*/ 3296520 h 33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Competenze chiave per l’apprendimento permanen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municare nella lingua mad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municazione in lingue stranier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mpetenza matematica e competenza di base in campo scientifico e tecnologico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mpetenza digita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Imparare a imparar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mpetenze sociali e civich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Spirito di iniziativa e di imprenditorialit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nsapevolezza ed espressione culturali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ecff"/>
                </a:solidFill>
                <a:latin typeface="Arial"/>
              </a:rPr>
              <a:t>Competenze chiave di cittadinanza da acquisire al termine dell’istruzione obbligatoria</a:t>
            </a:r>
            <a:r>
              <a:rPr b="1" lang="it-IT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ccecff"/>
                </a:solidFill>
                <a:latin typeface="Arial"/>
              </a:rPr>
              <a:t>(Allegato 2», Decreto 22 agosto 2007)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cc66"/>
                </a:solidFill>
                <a:latin typeface="Verdana"/>
              </a:rPr>
              <a:t>Costruzione del sé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1. Imparare ad imparare</a:t>
            </a:r>
            <a:r>
              <a:rPr b="0" lang="it-IT" sz="1400" spc="-1" strike="noStrike">
                <a:solidFill>
                  <a:srgbClr val="ff6600"/>
                </a:solidFill>
                <a:latin typeface="Verdana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organizzare il proprio apprendimento, individuando, scegliendo ed utilizzando varie fonti e varie modalità di informazione e di formazione (formale, non formale ed informale), anche in funzione dei tempi disponibili, delle proprie strategie e del proprio metodo di lavoro e di studio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2. Progettare</a:t>
            </a:r>
            <a:r>
              <a:rPr b="0" lang="it-IT" sz="1400" spc="-1" strike="noStrike">
                <a:solidFill>
                  <a:srgbClr val="ff6600"/>
                </a:solidFill>
                <a:latin typeface="Verdana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formulare progetti riguardanti lo sviluppo delle proprie attività di studio e di lavoro, utilizzando le conoscenze apprese per stabilire obiettivi significativi e realistici e le relative priorità, valutando i vincoli e le possibilità esistenti, definendo  strategie di azione e verificando i risultati raggiunti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cc66"/>
                </a:solidFill>
                <a:latin typeface="Verdana"/>
              </a:rPr>
              <a:t>Relazioni con gli altri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3. Comunicare</a:t>
            </a:r>
            <a:r>
              <a:rPr b="1" lang="it-IT" sz="1200" spc="-1" strike="noStrike">
                <a:solidFill>
                  <a:srgbClr val="ff6600"/>
                </a:solidFill>
                <a:latin typeface="Verdana"/>
              </a:rPr>
              <a:t>:</a:t>
            </a:r>
            <a:r>
              <a:rPr b="1" lang="it-IT" sz="12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i="1" lang="it-IT" sz="1200" spc="-1" strike="noStrike">
                <a:solidFill>
                  <a:srgbClr val="ffffcc"/>
                </a:solidFill>
                <a:latin typeface="Verdana"/>
              </a:rPr>
              <a:t>comprendere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 messaggi di genere diverso (quotidiano, letterario, tecnico, scientifico) e di complessità diversa, trasmessi utilizzando linguaggi diversi (verbale, matematico, scientifico, simbolico, ecc.) mediante diversi supporti (cartacei, informatici e multimediali)</a:t>
            </a:r>
            <a:r>
              <a:rPr b="0" i="1" lang="it-IT" sz="12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i="1" lang="it-IT" sz="1200" spc="-1" strike="noStrike">
                <a:solidFill>
                  <a:srgbClr val="ffffcc"/>
                </a:solidFill>
                <a:latin typeface="Verdana"/>
              </a:rPr>
              <a:t>rappresentare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 eventi, fenomeni, principi, concetti, norme, procedure, atteggiamenti, stati d’animo, emozioni, ecc. utilizzando linguaggi diversi (verbale, matematico, scientifico, simbolico, ecc.) e diverse conoscenze disciplinari, mediante diversi supporti (cartacei, informatici e multimediali).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4. Collaborare e partecipare:</a:t>
            </a:r>
            <a:r>
              <a:rPr b="0" i="1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interagire in gruppo, comprendendo i diversi punti di vista, contribuendo all’apprendimento comune ed alla realizzazione delle attività collettive, nel riconoscimento dei diritti fondamentali degli altri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5. Agire in modo autonomo e responsabile:</a:t>
            </a:r>
            <a:r>
              <a:rPr b="1" lang="it-IT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sapersi inserire in modo attivo e consapevole nella vita sociale e far valere al suo interno i propri diritti e bisogni riconoscendo al contempo quelli altrui, le opportunità comuni, i limiti, le regole le responsabilità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cc66"/>
                </a:solidFill>
                <a:latin typeface="Verdana"/>
              </a:rPr>
              <a:t>Positiva interazione con la realtà naturale e social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6. Risolvere problemi</a:t>
            </a:r>
            <a:r>
              <a:rPr b="0" lang="it-IT" sz="1400" spc="-1" strike="noStrike">
                <a:solidFill>
                  <a:srgbClr val="ff6600"/>
                </a:solidFill>
                <a:latin typeface="Verdana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ffrontare situazioni problematiche costruendo e verificando ipotesi, individuando le fonti, raccogliendo e valutando i dati, proponendo soluzioni utilizzando, secondo il tipo di problema, contenuti e metodi delle diverse discipline.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7. Individuare collegamenti e relazioni:</a:t>
            </a: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individuare e rappresentare, elaborando argomentazioni coerenti, collegamenti e relazioni tra fenomeni, eventi e concetti diversi, anche appartenenti a diversi ambiti disciplinari, e lontani nello spazio e nel tempo, cogliendone la natura sistemica, individuando analogie e differenze, coerenze ed incoerenze, cause ed effetti e la loro natura probabilistica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8. Acquisire ed interpretare l’informazione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cquisire ed interpretare criticamente l’informazione ricevuta nei diversi ambiti ed attraverso diversi strumenti comunicativi, valutandone l’attendibilità e l’utilità, distinguendo fatti e opinioni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Competenze chiave di cittadinanza</a:t>
            </a:r>
            <a:br>
              <a:rPr sz="3600"/>
            </a:br>
            <a:r>
              <a:rPr b="1" i="1" lang="it-IT" sz="3600" spc="-1" strike="noStrike">
                <a:solidFill>
                  <a:srgbClr val="ccecff"/>
                </a:solidFill>
                <a:latin typeface="Arial"/>
              </a:rPr>
              <a:t>(dimensione formativa del curricolo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39402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cc"/>
                </a:solidFill>
                <a:latin typeface="Verdana"/>
              </a:rPr>
              <a:t>Le competenze chiave di cittadinanza sono un punto di riferimento formativo </a:t>
            </a:r>
            <a:r>
              <a:rPr b="0" lang="it-IT" sz="3200" spc="-1" strike="noStrike" u="sng">
                <a:solidFill>
                  <a:srgbClr val="ffffcc"/>
                </a:solidFill>
                <a:uFillTx/>
                <a:latin typeface="Verdana"/>
              </a:rPr>
              <a:t>per tutta la scuola dell’obbligo</a:t>
            </a:r>
            <a:r>
              <a:rPr b="0" lang="it-IT" sz="3200" spc="-1" strike="noStrike">
                <a:solidFill>
                  <a:srgbClr val="ffffcc"/>
                </a:solidFill>
                <a:latin typeface="Verdana"/>
              </a:rPr>
              <a:t>, esse però vanno </a:t>
            </a:r>
            <a:r>
              <a:rPr b="0" i="1" lang="it-IT" sz="3200" spc="-1" strike="noStrike">
                <a:solidFill>
                  <a:srgbClr val="ffffcc"/>
                </a:solidFill>
                <a:latin typeface="Verdana"/>
              </a:rPr>
              <a:t>“descritte”</a:t>
            </a:r>
            <a:r>
              <a:rPr b="0" lang="it-IT" sz="3200" spc="-1" strike="noStrike">
                <a:solidFill>
                  <a:srgbClr val="ffffcc"/>
                </a:solidFill>
                <a:latin typeface="Verdana"/>
              </a:rPr>
              <a:t> in base all’ordine e grado di scuola e all’età degli alunn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cc66"/>
                </a:solidFill>
                <a:latin typeface="Arial"/>
              </a:rPr>
              <a:t>Assi culturali dell’obbligo di istruzione</a:t>
            </a:r>
            <a:br>
              <a:rPr sz="3400"/>
            </a:br>
            <a:r>
              <a:rPr b="1" lang="it-IT" sz="3400" spc="-1" strike="noStrike">
                <a:solidFill>
                  <a:srgbClr val="ffcc66"/>
                </a:solidFill>
                <a:latin typeface="Arial"/>
              </a:rPr>
              <a:t>(I biennio)</a:t>
            </a:r>
            <a:endParaRPr b="0" lang="en-US" sz="3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Asse dei linguaggi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Asse matematic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Asse scientifico-tecnologic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Asse storico-social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Assi culturali e competenze di base (1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250920" y="1268280"/>
          <a:ext cx="8713800" cy="5283360"/>
        </p:xfrm>
        <a:graphic>
          <a:graphicData uri="http://schemas.openxmlformats.org/drawingml/2006/table">
            <a:tbl>
              <a:tblPr/>
              <a:tblGrid>
                <a:gridCol w="2160360"/>
                <a:gridCol w="6553440"/>
              </a:tblGrid>
              <a:tr h="78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Ass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Cultur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Competenze di b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a conclusione dell’obbligo di istruzi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12254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As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dei linguagg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adronanza della lingua italiana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adroneggiare gli strumenti espressivi ed argomentativi indispensabili per gestire l’interazione comunicativa verbale in vari contesti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Leggere, comprendere ed interpretare testi scritti di vario tipo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rodurre testi di vario tipo in relazione ai differenti scopi comunicativ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37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Utilizzare una lingua straniera per i principali scopi comunicativi ed operativ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Utilizzare gli strumenti fondamentali per una fruizione consapevole del patrimonio artistico e letterari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49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Utilizzare e produrre testi multimedial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5202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As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matemat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49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Utilizzare le tecniche e le procedure del calcolo aritmetico ed algebrico, rappresentandole anche sotto forma grafic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7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49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nfrontare ed analizzare figure geometriche, individuando varianti e relazion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7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49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Individuare le strategie appropriate per la soluzione di problem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9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49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Analizzare dati e interpretarli sviluppando deduzioni e ragionamenti sugli stessi anche con l’ausilio di rappresentazioni grafiche, usando consapevolmente gli strumenti di calcolo e le potenzialità offerte da applicazioni specifiche di tipo informatic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Assi culturali e competenze di base (2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395280" y="1341360"/>
          <a:ext cx="8229600" cy="5186520"/>
        </p:xfrm>
        <a:graphic>
          <a:graphicData uri="http://schemas.openxmlformats.org/drawingml/2006/table">
            <a:tbl>
              <a:tblPr/>
              <a:tblGrid>
                <a:gridCol w="1954080"/>
                <a:gridCol w="6275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Ass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Cultur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Competenze di b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a conclusione dell’obbligo di istruzi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733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Ass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scientifico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tecnolo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Osservare, descrivere ed analizzare fenomeni appartenenti alla realtà naturale e artificiale e riconoscere nelle sue varie forme i concetti di sistema e di complessità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9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Analizzare qualitativamente e quantitativamente fenomeni legati alle trasformazioni di energia a partire dall’esperienz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1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Essere consapevoli delle potenzialità e dei limiti delle tecnologie nel contesto culturale e sociale in cui vengono applicat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798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Ass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storico-soci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mprendere il cambiamento e la diversità dei tempi storici in una dimensione diacronica attraverso il confronto fra epoche e in una dimensione sincronica attraverso il confronto fra aree geografiche e cultural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88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llocare l’esperienza personale in un sistema di regole fondato sul reciproco riconoscimento dei diritti garantiti dalla Costituzione, a tutela della persona, della collettività e dell’ambient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68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Riconoscere le caratteristiche essenziali del sistema socio economico per orientarsi nel tessuto produttivo del proprio territori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ecff"/>
                </a:solidFill>
                <a:latin typeface="Arial"/>
              </a:rPr>
              <a:t>Competenze , abilità, conoscenze</a:t>
            </a:r>
            <a:br>
              <a:rPr sz="2800"/>
            </a:br>
            <a:r>
              <a:rPr b="1" i="1" lang="it-IT" sz="2000" spc="-1" strike="noStrike">
                <a:solidFill>
                  <a:srgbClr val="ccecff"/>
                </a:solidFill>
                <a:latin typeface="Arial"/>
              </a:rPr>
              <a:t>(Decreto 22 agosto 2007, Nuovo obbligo di istruzione)</a:t>
            </a: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79280" y="1600200"/>
          <a:ext cx="8713800" cy="4924440"/>
        </p:xfrm>
        <a:graphic>
          <a:graphicData uri="http://schemas.openxmlformats.org/drawingml/2006/table">
            <a:tbl>
              <a:tblPr/>
              <a:tblGrid>
                <a:gridCol w="2146320"/>
                <a:gridCol w="3202200"/>
                <a:gridCol w="3365280"/>
              </a:tblGrid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66cc"/>
                          </a:solidFill>
                          <a:latin typeface="Arial"/>
                          <a:ea typeface="Times New Roman"/>
                        </a:rPr>
                        <a:t>Competen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66cc"/>
                          </a:solidFill>
                          <a:latin typeface="Arial"/>
                          <a:ea typeface="Times New Roman"/>
                        </a:rPr>
                        <a:t>Abilit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66cc"/>
                          </a:solidFill>
                          <a:latin typeface="Arial"/>
                          <a:ea typeface="Times New Roman"/>
                        </a:rPr>
                        <a:t>Conoscen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50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adroneggiare gli strumenti espressivi ed argomentativi indispensabili per gestire l’interazi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municativa verbal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in vari contes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mprendere il messaggio contenuto in un testo or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gliere le relazioni logiche tra le varie componenti di un testo or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Esporre in modo chiaro, logico e coerente esperienze vissute o testi ascoltat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Riconoscere differenti registri comunicativi di un testo or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Affrontare molteplici situazioni comunicative scambiando informazioni e idee per esprimere anche il proprio punto di vis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Individuare il punto di vista dell’altro in contesti formali e informal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rincipali strutture grammaticali della lingua italia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Elementi di base delle funzioni della lingu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Lessico fondamentale per la gestione di semplici comunicazioni orali in contesti formali e informal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ntesto, scopo e destinatario della comunicazi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dici fondamentali della comunicazione orale, verbale e non verb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rincipi di organizzazione del discorso, narrativo, espositivo, argomenta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856800"/>
            <a:ext cx="8229600" cy="52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6000" spc="-1" strike="noStrike">
                <a:solidFill>
                  <a:srgbClr val="ff0000"/>
                </a:solidFill>
                <a:latin typeface="Verdana"/>
              </a:rPr>
              <a:t>Che cos’è il curricolo?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040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 u="sng">
                <a:solidFill>
                  <a:srgbClr val="ff0000"/>
                </a:solidFill>
                <a:uFillTx/>
                <a:latin typeface="Arial"/>
              </a:rPr>
              <a:t>II biennio e V anno</a:t>
            </a: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66ffcc"/>
                </a:solidFill>
                <a:latin typeface="Arial"/>
              </a:rPr>
              <a:t>Licei e IT/IP - Vincoli normativi diversi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cc"/>
                </a:solidFill>
                <a:latin typeface="Verdana"/>
              </a:rPr>
              <a:t>Legge N° 53/03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(Moratti): in parte modificata dal Regolament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6600"/>
                </a:solidFill>
                <a:latin typeface="Verdana"/>
              </a:rPr>
              <a:t>D.L. N° 226/05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: non attuato, ma vigen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66"/>
                </a:solidFill>
                <a:latin typeface="Verdana"/>
              </a:rPr>
              <a:t>Legge N° 40/07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(Fioroni): Scorporo Lice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Ist. Economici e Tecnologici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cc"/>
                </a:solidFill>
                <a:latin typeface="Verdana"/>
              </a:rPr>
              <a:t>Regolamenti 15.3.10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(Gelmini): Linee guida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a) Regolamento I.T. (15.3.10)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13840" y="785880"/>
            <a:ext cx="875052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Verdana"/>
              </a:rPr>
              <a:t>Disposto regolamenta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66ffcc"/>
                </a:solidFill>
                <a:latin typeface="Verdana"/>
              </a:rPr>
              <a:t>Allegato 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Profilo educativo, culturale e professiona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Risultati di apprendimento comuni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Risultati di apprendimento del settore economic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Risultati di apprendimento del settore tecnologic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Strumenti organizzativi e metodologic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66ffcc"/>
                </a:solidFill>
                <a:latin typeface="Verdana"/>
              </a:rPr>
              <a:t>Allegato B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- Settore economico - Due indirizzi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Quadro orario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-Insegnamenti generali comuni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-Insegnamenti obbligatori d'indirizz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Profilo in uscita (Risultati di apprendimento e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                                         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competenz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i="1" lang="it-IT" sz="1800" spc="-1" strike="noStrike">
                <a:solidFill>
                  <a:srgbClr val="66ffcc"/>
                </a:solidFill>
                <a:latin typeface="Verdana"/>
              </a:rPr>
              <a:t>B1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- Ind. AMMININ.-FINANZA-MARKE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rticolazione: Relazioni internaz. per il marke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rticolazione: Sistemi informativi aziendali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1" i="1" lang="it-IT" sz="1800" spc="-1" strike="noStrike">
                <a:solidFill>
                  <a:srgbClr val="66ffcc"/>
                </a:solidFill>
                <a:latin typeface="Verdana"/>
              </a:rPr>
              <a:t>B2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– Ind. TURISM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llegato C - Settore Tecnologico – Nove indirizz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llegato D – Tabella di confluenz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b) Regolamento I.P. (15.3.10)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13840" y="102528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Verdana"/>
              </a:rPr>
              <a:t>Disposto regolamentare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66ffcc"/>
                </a:solidFill>
                <a:latin typeface="Verdana"/>
              </a:rPr>
              <a:t>Allegato A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Profilo educativo, culturale e professionale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Risultati di apprendimento comuni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Risultati di apprendimento del settore economico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Risultati di apprendimento del settore tecnologico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Strumenti organizzativi e metodologici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66ffcc"/>
                </a:solidFill>
                <a:latin typeface="Verdana"/>
              </a:rPr>
              <a:t>Allegato B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- Settore economico - Quattro indirizzi 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-Quadro orario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-Insegnamenti generali comuni  (area istruz. gen.)        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-Insegnamenti obbligatori d'indirizzo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Profilo in uscita (Risultati di apprendimento e competenze)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B1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- Servizi per l'agricoltura e sviluppo rurale                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B2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– Servizi socio-sanitari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B3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– Servizi per l'enogastronomia e l'ospitalità alb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B4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– Servizi commerciali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66ffcc"/>
                </a:solidFill>
                <a:latin typeface="Verdana"/>
              </a:rPr>
              <a:t>Allegato C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- Settore  industria e artigianato – Due indirizzi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C1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- Produzioni industriali e artigianali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                    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C2 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– Manutenzione e assistenza tecnica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66ffcc"/>
                </a:solidFill>
                <a:latin typeface="Verdana"/>
              </a:rPr>
              <a:t>Allegato D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– Tabella di confluenza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) Regolamento Licei (15.3.10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6756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Verdana"/>
              </a:rPr>
              <a:t>Disposto regolamentar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66ffcc"/>
                </a:solidFill>
                <a:latin typeface="Verdana"/>
              </a:rPr>
              <a:t>Allegati A–G</a:t>
            </a:r>
            <a:r>
              <a:rPr b="1" lang="it-IT" sz="2600" spc="-1" strike="noStrike">
                <a:solidFill>
                  <a:srgbClr val="ffffff"/>
                </a:solidFill>
                <a:latin typeface="Verdana"/>
              </a:rPr>
              <a:t>:  Piano degli studi 5 Licei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Verdana"/>
              </a:rPr>
              <a:t>Per ogni Liceo e disciplina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-Profili generali e competenze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-Obiettivi specifici di apprendiment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it-IT" sz="2600" spc="-1" strike="noStrike">
                <a:solidFill>
                  <a:srgbClr val="ffffff"/>
                </a:solidFill>
                <a:latin typeface="Verdana"/>
              </a:rPr>
              <a:t>Indicazioni nazionali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)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Riferimenti bibliografic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13840" y="1643040"/>
            <a:ext cx="8929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Ajello A.M., Pontecorvo C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Il curricolo. Teoria e pratica dell’innovazione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La Nuova Italia, Firenze, 2002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Baldacci M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Ripensare il curricolo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Carocci, Roma, 2006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Bianco M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Il curricolo. Storia, teorie e modelli applicativi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Franco Angeli, Milano, 2006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Cambi F. (a cura di)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La progettazione curricolare nella scuola contemporanea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Carocci, Roma, 2002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Capperucci D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Dalla programmazione educativa e didattica alla progettazione curricolare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Franco Angeli, Milano, 2008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Capperucci D., Cartei C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Curricolo e intercultura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Franco Angeli, Milano, 2010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Cerini G., Frabboni F. (a cura di)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Il curricolo di base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Tecnondid, Napoli, 2001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Colombo A. (a cura di)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Il curricolo e l’educazione linguistica. Leggere le nuove Indicazioni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Franco Angeli, Milano, 2007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D’Amore B., Fandiño Pinilla M.I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Le didattiche disciplinari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Erickson, Gardolo (TN), 2007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D’Amore B., Manini M. (a cura di)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Percorsi, labirinti e mappe. Esperienze protomatematiche nella scuola dell'infanzia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La Nuova Italia, Firenze, 1985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Fandiño Pinilla M.I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Curricolo e valutazione in matematica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Pitagora, Bologna, 2002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Perrenoud P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Costruire competenze a partire dalla scuola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Anicia, Roma, 2000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Autonomia scolastica e POF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Il POF è il documento fondamentale costitutivo dell’</a:t>
            </a:r>
            <a:r>
              <a:rPr b="1" lang="it-IT" sz="3200" spc="-1" strike="noStrike">
                <a:solidFill>
                  <a:srgbClr val="ffcc00"/>
                </a:solidFill>
                <a:latin typeface="Verdana"/>
              </a:rPr>
              <a:t>identità culturale e progettuale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delle istituzioni scolastiche ed esplicita la </a:t>
            </a:r>
            <a:r>
              <a:rPr b="0" lang="it-IT" sz="3200" spc="-1" strike="noStrike">
                <a:solidFill>
                  <a:srgbClr val="ff0000"/>
                </a:solidFill>
                <a:latin typeface="Verdana"/>
              </a:rPr>
              <a:t>progettazione curricolare, extracurricolare, educativa e organizzativa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che le singole scuole adottano nell’ambito della loro autonomia” (DPR 275/99, art. 3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POF e Curricol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523880"/>
            <a:ext cx="8896320" cy="41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Le istituzioni scolastiche determinano nel Piano dell’Offerta Formativa il </a:t>
            </a:r>
            <a:r>
              <a:rPr b="0" i="1" lang="it-IT" sz="4000" spc="-1" strike="noStrike">
                <a:solidFill>
                  <a:srgbClr val="ff6699"/>
                </a:solidFill>
                <a:latin typeface="Verdana"/>
              </a:rPr>
              <a:t>curricolo obbligatorio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 […]. Nell’attuazione del curricolo le istituzioni scolastiche precisano le scelte di flessibilità previste” (DPR 275/99, art. 8, co. 2)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Il Curricol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9280" y="1268280"/>
            <a:ext cx="8785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3600" spc="-1" strike="noStrike">
                <a:solidFill>
                  <a:srgbClr val="ffffff"/>
                </a:solidFill>
                <a:latin typeface="Verdana"/>
              </a:rPr>
              <a:t>Percorso formativo intenzionale progettato dalle singole istituzioni scolastiche, tenuto conto dei bisogni della popolazione scolastica e delle risorse del territorio (F. Frabboni)”, nel rispetto sia dell’autonomia delle singole scuole che degli obiettivi generali del sistema di istruzione.</a:t>
            </a:r>
            <a:r>
              <a:rPr b="0" i="1" lang="it-IT" sz="3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ecff"/>
                </a:solidFill>
                <a:latin typeface="Verdana"/>
              </a:rPr>
              <a:t>(Cfr. Frabboni F., </a:t>
            </a:r>
            <a:r>
              <a:rPr b="0" i="1" lang="it-IT" sz="1400" spc="-1" strike="noStrike">
                <a:solidFill>
                  <a:srgbClr val="ccecff"/>
                </a:solidFill>
                <a:latin typeface="Verdana"/>
              </a:rPr>
              <a:t>Le dieci parole della didattica</a:t>
            </a:r>
            <a:r>
              <a:rPr b="0" lang="it-IT" sz="1400" spc="-1" strike="noStrike">
                <a:solidFill>
                  <a:srgbClr val="ccecff"/>
                </a:solidFill>
                <a:latin typeface="Verdana"/>
              </a:rPr>
              <a:t>,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ecff"/>
                </a:solidFill>
                <a:latin typeface="Verdana"/>
              </a:rPr>
              <a:t>Ethel Editoriale Giorgio Mondatori, Milano, 1994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Il curricolo non si </a:t>
            </a:r>
            <a:r>
              <a:rPr b="1" i="1" lang="it-IT" sz="4000" spc="-1" strike="noStrike">
                <a:solidFill>
                  <a:srgbClr val="ffcc66"/>
                </a:solidFill>
                <a:latin typeface="Arial"/>
              </a:rPr>
              <a:t>“programma” ma</a:t>
            </a:r>
            <a:r>
              <a:rPr b="1" lang="it-IT" sz="4000" spc="-1" strike="noStrike">
                <a:solidFill>
                  <a:srgbClr val="ffcc66"/>
                </a:solidFill>
                <a:latin typeface="Arial"/>
              </a:rPr>
              <a:t> si </a:t>
            </a:r>
            <a:r>
              <a:rPr b="1" i="1" lang="it-IT" sz="4000" spc="-1" strike="noStrike">
                <a:solidFill>
                  <a:srgbClr val="ffcc66"/>
                </a:solidFill>
                <a:latin typeface="Arial"/>
              </a:rPr>
              <a:t>“progetta”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47680" y="167616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Verdana"/>
              </a:rPr>
              <a:t>Programmazione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è l’organizzazione di un sapere dato (il programma) in sequenze temporali (spesso imposte dalla sistematica della disciplin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Verdana"/>
              </a:rPr>
              <a:t>Progettazione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è la costruzione originale di un percorso di “apprendimento insegnato” e quindi intenzionale definito a partire dall’analisi dei bisogni dei soggetti e del contest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15:20:00Z</dcterms:created>
  <dc:creator>davide</dc:creator>
  <dc:description/>
  <dc:language>en-US</dc:language>
  <cp:lastModifiedBy>Valued Acer Customer</cp:lastModifiedBy>
  <dcterms:modified xsi:type="dcterms:W3CDTF">2014-03-19T22:53:30Z</dcterms:modified>
  <cp:revision>150</cp:revision>
  <dc:subject/>
  <dc:title>Università degli Studi di Firenze Facoltà di Scienze della Formazione  Corso di Perfezionamento "La Formazione della Dirigenza Scolastica"   </dc:title>
</cp:coreProperties>
</file>